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279-218C-4DBE-ADE6-876ED544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30C-8DEF-4914-9E48-9487906F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145-1A0E-4C2D-8E0F-07A03EBA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539-6EDE-490F-90D2-D63E5D71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9AA-1680-40F6-941E-DD9326E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11D-BF7E-4D47-BF4C-D8138B92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6F3-463E-4810-B79C-97F322E1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05E-0800-41BB-B2C3-BBE192C4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E1A-EF26-4DDC-A634-8E7BE745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CF3-5B80-4AB1-BAC8-3778313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7DC-47BE-4812-80BE-E2B21D1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E41-6E5A-4B42-BD4C-9DA017B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D0A8-3861-4BE3-95A4-E582094E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אכסני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807000" cy="34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33920" y="3581280"/>
            <a:ext cx="45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ספומט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41920" y="1600200"/>
            <a:ext cx="426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ל  מי   הכספומט   הז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בנק  הפועל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14800" y="2708280"/>
            <a:ext cx="46483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ילד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 אמ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ילדים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אל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124080" y="2071800"/>
            <a:ext cx="56772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מי  הילדה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זא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3413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י  המיטה  הזאת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מיטה של  דובי  קט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86240" y="1600200"/>
            <a:ext cx="3567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ל מי   המיטה   הזאת ?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מיטה  הזאת  לא  של  זהב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ל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86240" y="1600200"/>
            <a:ext cx="3567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ל  מי    הבית    הזה?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ית  הזה  לא  של  עמי  ותמ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4552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ספר  הזה ?  של ילד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3530520" cy="5200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6800" y="1600200"/>
            <a:ext cx="3027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ילדות הא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כסניה  בעין גדי ליד  ים המל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En Gedi Youth Hostel (2007Nov4)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37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67000" y="2262240"/>
            <a:ext cx="2610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מי הכלב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ניל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מי  הספר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ספר של  של  סילברסטיי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57800" y="1905120"/>
            <a:ext cx="34322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מי הספר  ה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  ג'יי  קיי  רולינג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1800" y="2590920"/>
            <a:ext cx="3562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 מטיילים 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1762200"/>
            <a:ext cx="39621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  __ __ __ __ __ __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טייל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__ __ __ __ __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טיי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6482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יול  במדב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45939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588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לפון       ציבור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364824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לפון ציבורי  בבלג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238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9:33:38Z</dcterms:created>
  <dc:creator>Preferred Customer</dc:creator>
  <dc:description/>
  <dc:language>en-US</dc:language>
  <cp:lastModifiedBy>aschlezinger</cp:lastModifiedBy>
  <dcterms:modified xsi:type="dcterms:W3CDTF">2011-02-17T18:45:36Z</dcterms:modified>
  <cp:revision>2</cp:revision>
  <dc:subject/>
  <dc:title>אכסניה   </dc:title>
</cp:coreProperties>
</file>